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B17C-AB46-4FEA-955E-62B8E7A497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5B95-1B4C-41CF-A7A1-B1861C3E1AEF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4FF6-1B2C-41E9-8B51-0FD599784E8C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4AD4-520C-497D-B913-5E16DCCED0F0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856D-1849-4759-B590-9F9274992745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C85F-1596-4B45-91C9-46AFD64A76B0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1220-E3E8-4F0C-A5AA-6C8791F4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5D9-9CAA-4F04-A403-7D9A7CA8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755D-5793-4EDA-95B3-18AC6E33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43CA-5255-49E2-9790-00723D0D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2F3A-42C7-4DD5-B4F9-A061C8D9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79A5-1A0A-4B76-B25F-DEC165B9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62AE-2F08-4BA4-9C77-B24CD612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998D-0E58-40C2-B459-DDDB274C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474B-8341-43AC-B70B-66965CA2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4682-ED8D-4F6F-8E39-56E5F34D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4E0C-20CD-4639-9C82-2CF93366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43C1-BAA2-4122-BD98-D89234B6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D406-DA84-4D0E-B86C-B7343D53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7842-1CDB-4D5F-B6BE-E4483113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3EE9-CF89-42D2-A55C-B01C9750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3CF2-A3AA-4418-B85D-AFE472D2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41F5-85C5-453E-8F47-5E469063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9F72-B691-486E-94EA-01831D3C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C9B-CF81-470A-833C-5D37E069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7B23-7C9F-4496-9958-5E1B6EEB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2A6-29FB-446B-A3AF-F2DD5AD6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BD67-B90A-47C9-859F-B2611DE1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0AA-9B5F-4D72-9185-C649AA43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EBE-C205-408E-911B-A50A3A49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8E39-3FD8-458E-B394-5D066ACD5F9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A675-F0C3-4CD0-866E-AB6DFA85979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4011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лгоритм организации производственного обучения (производственной практики) учащихся, осваивающих содержание образовательных программ профессионально-технического образования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1"/>
          <p:cNvSpPr/>
          <p:nvPr/>
        </p:nvSpPr>
        <p:spPr>
          <a:xfrm>
            <a:off x="239760" y="1125360"/>
            <a:ext cx="8642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ведения производственной практики между учреждениями образования и организациями заключается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оговор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б организации производственного обучения учащихся, осваивающих содержание образовательных программ  профессионально-технического образов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"/>
          <p:cNvPicPr/>
          <p:nvPr/>
        </p:nvPicPr>
        <p:blipFill>
          <a:blip r:embed="rId1"/>
          <a:srcRect l="23866" t="27607" r="21329" b="14740"/>
          <a:stretch/>
        </p:blipFill>
        <p:spPr>
          <a:xfrm>
            <a:off x="468360" y="907920"/>
            <a:ext cx="83516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rcRect l="31271" t="32449" r="26537" b="11271"/>
          <a:stretch/>
        </p:blipFill>
        <p:spPr>
          <a:xfrm>
            <a:off x="539640" y="404640"/>
            <a:ext cx="79646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rcRect l="18553" t="18150" r="18036" b="7735"/>
          <a:stretch/>
        </p:blipFill>
        <p:spPr>
          <a:xfrm>
            <a:off x="179280" y="620640"/>
            <a:ext cx="87631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2"/>
          <p:cNvSpPr/>
          <p:nvPr/>
        </p:nvSpPr>
        <p:spPr>
          <a:xfrm>
            <a:off x="1902960" y="2500200"/>
            <a:ext cx="57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Verdana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3"/>
          <p:cNvSpPr/>
          <p:nvPr/>
        </p:nvSpPr>
        <p:spPr>
          <a:xfrm>
            <a:off x="324000" y="549360"/>
            <a:ext cx="835164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Нормативные документы, используемые при организации производственной практики учащихся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декс Республики Беларусь об образован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разовательные стандарты Республики Беларусь профессионально-технического образования по специальност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становление Министерства образования Республики Беларусь 5.08.2011 № 216 «О некоторых вопросах профессионально-технического образования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ложение об организации производственного обучения учащихся, осваивающих содержание образовательных программ профессионально-технического образования, утвержденным постановлением Совета Министров Республики Беларусь 14.07.2011 № 95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3"/>
          <p:cNvSpPr/>
          <p:nvPr/>
        </p:nvSpPr>
        <p:spPr>
          <a:xfrm>
            <a:off x="539640" y="1197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rcRect l="24073" t="20409" r="21201" b="20254"/>
          <a:stretch/>
        </p:blipFill>
        <p:spPr>
          <a:xfrm>
            <a:off x="324000" y="549360"/>
            <a:ext cx="86184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262080" y="620640"/>
            <a:ext cx="864216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Нормативная правовая документация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одекс об образовании Республики Беларус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бразовательный стандарт Республики Беларусь профессионально-технического образования по специальност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иповая учебная программа по учебному предмет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ребования профессионально-квалификационной характеристи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468360" y="242100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http://ripo.unibel.by / Главная / Научно-методическое обеспечение профессионального образования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"/>
          <p:cNvPicPr/>
          <p:nvPr/>
        </p:nvPicPr>
        <p:blipFill>
          <a:blip r:embed="rId1"/>
          <a:srcRect l="2991" t="19578" r="34411" b="9331"/>
          <a:stretch/>
        </p:blipFill>
        <p:spPr>
          <a:xfrm>
            <a:off x="281160" y="692280"/>
            <a:ext cx="863892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rcRect l="18928" t="22756" r="52536" b="11943"/>
          <a:stretch/>
        </p:blipFill>
        <p:spPr>
          <a:xfrm>
            <a:off x="2195640" y="620640"/>
            <a:ext cx="460836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252520" y="225360"/>
            <a:ext cx="463896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468360" y="5157720"/>
            <a:ext cx="4751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250920" y="625320"/>
            <a:ext cx="849636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отдельных случаях производственная практика может проводиться в учебно-производственных мастерских, учебных хозяйствах, на учебно-опытных участках и в других структурных подразделениях учреждения образования (при их наличии) 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о согласованию с учредителе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ускается проведение производственной практики в составе студенческих отрядов, если выполняемая учащимся работа соответствует специальности, по которой он обучает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0T08:09:40Z</dcterms:created>
  <dc:creator>Admin</dc:creator>
  <dc:description/>
  <dc:language>en-US</dc:language>
  <cp:lastModifiedBy>User</cp:lastModifiedBy>
  <dcterms:modified xsi:type="dcterms:W3CDTF">2019-11-29T06:12:57Z</dcterms:modified>
  <cp:revision>63</cp:revision>
  <dc:subject/>
  <dc:title>Слайд 1</dc:title>
</cp:coreProperties>
</file>